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944B-B245-4442-B094-2B29FA79D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2BBC-6B61-4891-BB70-51457DCD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4C32-7DCD-4EDB-B266-74501D6A0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44ED-1B40-4AFB-82C4-0F5393AE3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7834-6EF7-4A71-A563-63CBA347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075F-948C-4E85-8858-C3299048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772C-6DA2-442A-B6C3-C9F93DEC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606A-E5A4-4756-B447-A4BF5A52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3502-F784-491C-A6F1-AD9A6A84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05B4-02C3-4805-8EBD-EE316879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26BC-8DE0-4135-AF02-DA0B87BB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385E-3ABD-463B-BFF4-8ED103CB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3366-3274-4B01-A387-1FD455C5EE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429000"/>
            <a:ext cx="809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33cc"/>
                </a:solidFill>
                <a:latin typeface="Times New Roman"/>
              </a:rPr>
              <a:t>First  Aid Right And Wro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64480" y="2057400"/>
            <a:ext cx="386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Integrating ski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30760" y="304920"/>
            <a:ext cx="862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d the following descriptions of accidents on page 1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 decide what the  rescuers did wro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1523880"/>
          <a:ext cx="8381520" cy="4952880"/>
        </p:xfrm>
        <a:graphic>
          <a:graphicData uri="http://schemas.openxmlformats.org/drawingml/2006/table">
            <a:tbl>
              <a:tblPr/>
              <a:tblGrid>
                <a:gridCol w="4190400"/>
                <a:gridCol w="41911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tu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they did wro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ating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tel f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son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2360" y="304920"/>
            <a:ext cx="751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what you have learned about first aid to li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they should have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80880" y="1447920"/>
          <a:ext cx="8381880" cy="5181120"/>
        </p:xfrm>
        <a:graphic>
          <a:graphicData uri="http://schemas.openxmlformats.org/drawingml/2006/table">
            <a:tbl>
              <a:tblPr/>
              <a:tblGrid>
                <a:gridCol w="4190760"/>
                <a:gridCol w="4191120"/>
              </a:tblGrid>
              <a:tr h="12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tu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they should have d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ating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tel f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so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973240" y="1295280"/>
            <a:ext cx="195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cc"/>
                </a:solidFill>
                <a:latin typeface="Times New Roman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6280" y="2743200"/>
            <a:ext cx="859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e one of the situations in the reading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a description. In the new descriptio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escuer should give first aid in the right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7T00:59:38Z</dcterms:created>
  <dc:creator>kkasfjoirfe</dc:creator>
  <dc:description/>
  <dc:language>en-US</dc:language>
  <cp:lastModifiedBy>kkasfjoirfe</cp:lastModifiedBy>
  <dcterms:modified xsi:type="dcterms:W3CDTF">2004-07-18T03:02:30Z</dcterms:modified>
  <cp:revision>5</cp:revision>
  <dc:subject/>
  <dc:title>PowerPoint 演示文稿</dc:title>
</cp:coreProperties>
</file>